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0D6-D325-49E3-9EA0-7F0788C6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C12-A4F1-43CC-9A8E-1BEE52E6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9C8-9A53-4F86-8FEB-127A009B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9AF-998B-4B8D-9510-5836A50F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A6C-E085-4084-87F8-BB8BADAB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60A-215D-4BD7-9095-5954FAB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8EE-9079-4F79-A01A-3211574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155-A86B-46C5-9D1D-164C6F1F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01E-B0FD-4B50-8491-9310EA17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FC5-F8BC-4A0E-8F0A-2A08BC5C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9EB-0DDB-484C-A6F8-8FD2763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FB2-018A-4C1C-8D09-CD00A66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1A2-8AEE-43A7-A71E-36FC079612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00160" y="2000160"/>
            <a:ext cx="880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τοτε ἐαν τις ὑμιν εἰπῃ∙ Ἰδε ὡδε ὁ Χριστος, Ἰδε ἐκει, μη πιστευε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προελθων μικρον ἐπιπτεν ἐπι της γης και προσηυχετο ἱνα εἰ δυνατον ἐστιν παρελθῃ ἀπ’ αὐτου ἡ ὡ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εκριθη Ἰησους∙ Ἀμην ἀμην λεγω σοι, ἐαν μη τις γεννηθῃ ἐξ ὑδατος και πνευματος, οὐ δυναται εἰσελθειν εἰς την βασιλεια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τα ταυτα εὑρισκει αὐτον ὁ Ἰησους ἐν τῳ ἱερῳ και εἰπεν αὐτῳ∙ Ἰδε ὑγι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γονας. μηκετι ἁμαρτανε, ἱνα μη χειρον σοι τι γεν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840" y="1185840"/>
            <a:ext cx="9301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γαρ πατηρ φιλει τον υἱον και παντα δεικνυσιν αὐτῳ ἃ αὐτος ποιει, και μειζονα τουτων δειξει αὐτῳ ἐργα, ἱνα ὑμεις θαυμαζητε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ω δε ἐχω την μαρτυριαν μειζονα του Ἰωαννου∙ τα γαρ ἐργα ἃ δεδωκεν μοι ὁ πατηρ ἱνα τελειωσω αὐτα, αὐτα τα ἐργα ἃ ποιω μαρτυρει περι ἐμου ὁτι ὁ πατηρ με ἀπεσταλκ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θαυμαζον ἐπι τῃ διδαχῃ αὐτου ἐτι μαλλον∙ ἠν γαρ διδασκων αὐτους ὡς ἐξουσιαν ἐχων και οὐχ ὡς οἱ γραμματ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γενομενου σαββατου ἠρξατο διδασκειν ἐν τῃ συναγωγῃ, και πολλοι ἀκουοντες ἐθαυμασαν λεγοντες∙ Ποθεν τουτῳ ταυτα, και τίς ἡ σοφια, και αἱ δυναμεις τοιαυται δια των χειρων αὐτου γινομεν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us remember the shepherd of our sou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on makes you free, you will be truly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teaching [use periphrastic] them about love for the least of the brothers and for all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I crucify again the one who washed me from sin? May it never be!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85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00160" y="2000160"/>
            <a:ext cx="8800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σαν δε τινες των γραμματεων ἐκει καθημενοι και λογιζομενοι ἐν ταις καρδιαι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 ἐγω μαρτυρω περι ἐμαυτου, ἡ μαρτυρια μου οὐκ ἐστιν ἀληθ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ω εἰμι ὁ ποιμην ὁ καλος και εὐ γινωσκω τα ἐμα και γινωσκει με τα ἐ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θεασαμεθα την δοξαν αὐτου και μιμνῃσκομεθα μαλιστα του κυριου της δοξης νιπτοντος τους ποδας ἡμ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2840" y="1185840"/>
            <a:ext cx="9101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η ἐγερθησεται ἐν τῃ κρισει μετα των ἀνδρων της γενεας ταυτης και κατακρινεῖ [κατα + κρινω =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 condemn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ους, ὁτι ἠλθεν ἀκουσαι την σοφιαν του βασιλεως, και ἰδου πλειον του βασιλεως ὡδ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ενετο δε ἐν τῳ βαπτισθηναι ἁπαντα τον λαον και Ἰησου βαπτισθεντος και προσευχομενου ἀνεῳχθην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ρχεται το τριτον και λεγει αὐτοις∙ Καθευδετε το λοιπ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ἠλθεν ἡ ὡρα, ἰδου παραδιδοται ὁ υἱος του ἀνθρωπου εἰς τας χειρας των ἁμαρτωλ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 οὐν προσφερῃς τι ἐπι το θυσιαστηριον και μνησθῃς ἐκει ὁτι ὁ ἀδελφος σου ἐχει τι κατα σου, ὑμοστρεφε εὐθυς προς αὐτον και ἐρωτα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42920" y="15429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live, it is better to live well and to love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shepherds had arrived, they saw the sleeping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ho has given you all things in Christ, will he not also give you his l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a beautiful and very wise w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Exercises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1397160"/>
            <a:ext cx="8572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orinthians 13.1-3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ὰν ταῖς γλώσσαις τῶν ἀνθρώπων λαλῶ καὶ τῶν ἀγγέλων, ἀγάπην δὲ μὴ ἔχω, γέγονα χαλκὸ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ras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χῶν [ἠχε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 nois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ἢ κύμβαλ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ymba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αλάζον [ἀλαλα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a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.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ὰν ἔχω προφητεία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εἰδῶ τὰ μυστήρια πάντα καὶ πᾶσαν τὴν γνῶσιν καὶ ἐὰν ἔχω πᾶσαν τὴν πίστιν ὥστε ὄρη μεθιστάναι [μεθιστημι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], ἀγάπην δὲ μὴ ἔχω, οὐθέν [= οὐδεν] εἰμ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ἂν ψωμίσ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ed, give awa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άντα τὰ ὑπάρχοντά μου καὶ ἐὰν παραδῶ τὸ σῶμά μου ἵνα καυχήσωμαι, ἀγάπην δὲ μὴ ἔχω, οὐδὲν ὠφελοῦμαι [ὠφελε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ain, profit, benefi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9:05:18Z</dcterms:created>
  <dc:creator>Sarah</dc:creator>
  <dc:description/>
  <dc:language>en-US</dc:language>
  <cp:lastModifiedBy>Sarah</cp:lastModifiedBy>
  <dcterms:modified xsi:type="dcterms:W3CDTF">2009-07-09T19:19:02Z</dcterms:modified>
  <cp:revision>14</cp:revision>
  <dc:subject/>
  <dc:title>Slide 1</dc:title>
</cp:coreProperties>
</file>